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sldIdLst>
    <p:sldId id="256" r:id="rId41"/>
    <p:sldId id="257" r:id="rId42"/>
    <p:sldId id="258" r:id="rId43"/>
    <p:sldId id="259" r:id="rId44"/>
    <p:sldId id="260" r:id="rId45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1418-7732-41C6-89D3-325287B2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2C3A-B443-4CBF-A452-3E355417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032B05-74BD-4695-920B-246839C1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234FB4-5101-426E-BE9E-7E99C6E5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045D84-7021-4326-9BFF-3758741E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E1A97-D2F9-482C-AFA1-76904D7C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A180B2-782A-4846-BFFC-96B5AC6C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8D7E04-1B7D-4FF1-AFF6-E51D8A0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B660E-1D08-4DBA-AC7D-B6FE1172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70C0A8-32B5-4EC5-B06C-82EF3D45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E76CE2-21A8-4959-B20D-C8523237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E7680F-3C39-4F73-8607-EA1ADFA5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4DD4-E53A-4C29-B69A-DDE589AE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85FC0C-14FE-4644-8F23-1DAD192D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157341-683C-43E5-A6D0-A7A46855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6F1FF-8BE4-4FA0-8032-58823C21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D978B4-918F-4968-AFFC-FE2A6C15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3C3083-F336-4252-8405-D757E57D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C26E1C-FEA2-4403-B729-BB3F81F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8BFDA9-5434-43A5-884C-B6BFE8C9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F15B23-6872-452B-9BBD-4A402C6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AF4C52-9D64-4600-B4DC-FC6BCFA5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12D6D2-2298-4FCB-8C10-BB5A7240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192E-18AF-446F-A8B3-613426B3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729D0-DD70-4284-9174-3CA6A67B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20F4D4-FD9C-4D4C-AB46-4E184B4C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0A453-C95B-4D24-A1CA-3940781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CBFE40-E26F-4003-A34A-8E6C9431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9D6793-3260-4D58-A533-90F79D9C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A46745-2A34-47CE-B2CA-2E7ED1DA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97AEAE-6337-471A-B928-4954C798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D05209-7945-4E67-A27D-F0023888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43145D-615D-463D-B211-92314E16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A20309-5067-4E4D-AA42-B5D62D4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22BE8-016E-4AC6-986E-008C0D41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C12CD3-A18B-4518-9D11-D806396B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B3B7EC-90AB-449F-9A31-EF4EBB95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3A37C0-0FCD-4CA6-A6F7-0D6BE2E9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7D83CB-11E7-4DEA-99A3-1B2421B5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CCCFB6-AF7F-48B3-A7D9-FB9E3379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3C160E-AA64-4BBD-A9D2-675474C9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023162-60E5-419F-A050-75134B0E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E1D8E4-C5E3-40BA-8523-6AD4CD19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D5EA40-F0EF-4F83-BCF3-E55D4AC5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6DB9D4-E2CF-48D0-A815-D95F02E7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21D00-385D-4B5D-967E-B07873E4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80962C-032C-403E-8E60-308AE5C1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995CB6-3CF2-4979-81E7-BC3440E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0EE572-EC16-4F32-9880-A913F321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E8C563-692C-459A-A564-3AEF27FB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B9ED8C-3168-46A4-B1CF-7D74C25F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3FF1F7-B6B8-4C4A-B1A5-36FFE10D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3893DD-8BA5-45B3-AC84-26E1B852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3CDFBB-567D-44DC-9295-6527D050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CB60C1-41ED-479D-A758-FC588A9E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B907AC-51F0-4798-86EC-150857F7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295BA-25B0-43A6-9A12-FA2004FC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FDF89C-6A10-4877-9AF0-19785871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C0598C-B721-4A01-80A3-B741F4B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D55DC1-3B09-41BA-A55E-2EE7A0AD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5930BA-7EC2-40CC-9D74-DCB4690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7A452F-2C2C-462A-9383-1E60BFE3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CF9AD2-C654-4CBF-AC9D-98863EE1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15BD67-3CFD-4B98-BDF0-3B80E23D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326D8F-51F5-4B57-A3B6-CFCBCC77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C170B0-FDB6-4494-B16C-13641D87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3BD989-C2B7-409B-B3C3-3616BE49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7A6C1-EF95-4ED2-8704-B8B462B6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8EB3A2-BB9E-4E62-A76A-91627F12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F1439B-222C-4A3A-B139-B758221C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65FF50-D2A5-4E59-9D1B-4BA3DAC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D91C89-2BB7-4EBB-8CD7-39DC8A51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A25288-BD67-47A1-BB36-6D183097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2BE668-FEA5-4676-91B9-FF3339F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EBC198-9168-4030-92F8-FDDE1D0A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5F2587-9B70-49EF-8AF4-B16B6E74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BFE82F-5028-47C1-A678-D8731383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FFCE4C-CAB6-456D-9282-118877BE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42043-A8DA-43E1-B863-AC1550F2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71F145-40D7-4C0A-BB08-8F4870E9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9ED15A-B118-4439-9815-B925E913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28275A-31BD-4D79-AEDC-C4C40874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47BA7B-FDD3-4801-9160-5FAA6417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AB3F49-E8CC-4DFB-8A1A-0B263DEF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E335A0-32B3-448E-ACE5-35000882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66B866-84FD-4C30-98D6-170D30F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BA0956-FEF4-4157-9BA4-49AEA2E0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19ECCC-9C9E-41D5-B4C4-E1C9AC9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471A35-6842-4754-8BA4-7B8EF4C6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D8CDF-B549-4FA4-B87E-C30FBD9B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B6C294-015B-47CE-B578-52C17555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D37B7D-EA27-4346-BF63-2A6CBB73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0E30BF-5965-4958-92BA-EFD97682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CD25E7-2E5B-41F9-A264-589E04A2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9D7B24-FFC9-412B-BC65-55E02638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04468C-E770-4B55-9F15-B462D68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93D376-678E-4C2D-8C9B-3CC03C3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5839FB-3B9F-4CEC-B827-54D8C172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35324D-B7E8-41E8-960E-B9661DD2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DFD3DD-016F-4271-AA71-62EA539D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00713-C1F4-4797-A47E-C32AB9E4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DA3A69-0899-4359-A056-20726B80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F79823-B10D-4544-B546-2CF37F8E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599526-56DC-4F1A-BDEB-62E187E1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713B47-5DE2-4266-B110-11E68133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1BA303-7C0A-466C-A5C2-0B6BC3A1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BB4845-D640-4979-A5F7-986E7B8E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CE717E-F6DD-42EB-9633-F84CB271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8DF54A-773E-4F91-8AA6-2E0F8637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5820CB-AFBB-4008-9A83-15591EF1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E75F22-F349-4050-B952-630F5CB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CAB8-761B-4199-A1CE-23CAFD95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B34CF-ABE4-4AA5-BE71-77A9B3EA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50C649-5AE9-49E6-89F5-4E7DBAE5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4ECBDD-24B9-437E-B0AE-A513DF83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CC16A3-65A5-4061-B713-EF4B0937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2B2A29-7AA8-4EC2-9AF0-F6BBCB10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465383-C635-4D99-BB62-E0CCAC9B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C17F19-D46A-4B23-9447-3FED9A27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09C21E-B1F3-48BC-B3F4-E3FC7A91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5D6EA4-1A4F-4EB0-879C-EF6BDAC2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CF3194-1C55-4F36-9C96-B1C6CD51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41200D-4522-4AAB-8284-FCC9542A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84689-434B-4931-BC9C-BF731326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2E7715-0796-4199-A021-11590E03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F9F965-33E6-412F-B48D-07C85CCB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20BD20-9ECF-4CA9-AD3D-75790F99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860765-9762-4FE2-A736-47BE3131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132CBDA-B11F-4FEA-81F1-8069806A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885387-0F87-482F-9C28-6DCAF3F2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735924-A465-4497-8F27-6D121FF8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F2BA92-854D-425B-B5C0-1440BEDA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3D0F9C-EF73-46D0-9839-412F11E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F288CE-FF10-440F-96EA-8D437222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B9E6C-B83E-4E4C-B2A5-3CBF086A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FB5D2E-4FF0-4E54-B05C-7D08DDA6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CEBC3A-BE0B-4A1C-AF55-CEBBBA54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747E2E-15BD-40CD-9212-89A9E602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D55879-E29E-48EF-B022-B6DF89FF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B48BBF-2246-4AF4-8E03-B3F0AC95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B3D60A-CC2B-41B6-9E91-ED6DE6DF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7FA8CB-01A6-4D97-8EF3-5CAC6371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0293CA-1A59-4504-A22C-D3CFA8FD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8F989E-9678-4C32-93F1-3C7420C2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93272E-82DE-4146-A718-4C49F6CB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F811D-DEBE-40F3-BEEC-7F306653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AA3879-AF17-4B03-9B58-0E8D69EF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547385-16E6-44D5-B385-C6A54CD0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43BDE09-F144-4E31-9BC3-7D587A1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26200B-BF91-4CAA-BA94-8732AEFF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01A5E1-EE81-45E7-8DB4-DAF2911F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A60A04-E8BF-4A49-ADC5-473C53B1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20D102-B5B2-4438-8606-9C3A4B9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EA8896-AFF1-4AC0-9CEA-E1EEF653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D7C479-F1E5-4ADC-AE2C-3CC19371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33FC50-5052-4195-8CCA-94CE342A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A6CFD-5264-499A-9B9A-F78D6A48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71F2E2-941F-4473-9E1D-86ACCB19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8BB576-D578-4483-A896-729D710B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D1F3C0-EA29-4859-91F9-DEAEE228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4AADEE-6C65-4BB0-A6A7-110ED4FB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1568D3-F62F-4222-8428-A2A4E038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24992B-BDD9-4599-8032-8758811C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2FB36C-2096-48A4-A47C-242EAA2C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FA5296-984E-4E59-AB3F-FA9D5EA2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C0FCDF-5A98-42FD-89A7-58F7F453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234F2B2-6C89-4485-9BDB-D4B77F81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6279E-7643-4284-A28B-B43EF99E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92CA09-388C-4353-AB69-EF259C72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357ED03-62D8-488B-BDBD-A9D63EB4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83D4CD-2B7A-4894-8791-210BC821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D6EC3E-A85F-44AD-806D-7B2F7CF4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C6A540-0929-473F-9472-54FE3077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23D31D-C35C-4D51-91F6-8FDCB33D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CDDD0B6-CE9A-4CE9-88F5-EAA37059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BE0322B-C17F-4E5E-AF72-1C242B8E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B1B11D-18B7-45C5-9ABF-ABA526D2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1D43B15-F820-4206-9537-BC9CAF74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E371D-1568-4ACB-9426-540EC7E7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8D28CF-3BA7-48AD-BCC1-449FCE3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212E04-EEF5-4734-9C07-95ECB98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1A12A28-FC12-4CA0-BD9E-F34C66EF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2D9E5A-75A2-449E-B734-D71FE4A4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4BDFC50-3F92-483F-BCEC-3BC3820E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4B1B40F-F9C1-4FCE-899E-1E85F423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0057C5-3DED-4027-B3A9-6F31BF21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C662AD-B3B0-4E0F-8FA0-490EDD3C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38C84C-E121-4D45-9E19-D1811C34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63B5AE-ACF6-4F87-B8B5-3D1CAAAB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61337-CE94-4AB8-AC52-4C0DE23F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4823A0-38A9-4E0A-A964-128B072F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01D7A7-B501-4C6E-ACEC-876498F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701C3AB-564B-4A17-B0CA-778B1C49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F149F7-344E-4604-8170-34C6F8B1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CCDBDE9-CEFC-424F-A0E6-77E2E9CF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934BA1C-D879-42BB-9C2B-56F264AE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C87A50B-BB75-4E52-BB98-872C29F1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FAF57D-1D51-4E64-A2A1-73ABF55B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579B50B-396B-402B-A839-0F9D3ADC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AA5245F-FAE3-499E-8930-158B1EEB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E42E1-6687-4955-B5FF-0020FE29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D4D1E3F-B924-4D53-9797-1CEA6791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319DE6-3FAE-4BF1-8548-43C5656E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9B9235-EA34-4AE5-8C98-C926FE58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F29A58-0406-4948-BEC8-668F7A5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5D1B5E-0AF9-4B62-BB98-4CABE303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C65BFB-A2D3-48DB-B4C7-3CB94BEE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19263F-CB31-4043-B26D-FC895C1B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0A6D8C-B3C6-4C80-98CF-F3768D9A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F6612B4-B471-473B-BBC5-D89D1CE0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FDC0D5E-1822-4D1B-A6BA-4298298F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CE973-3A7B-45C0-841B-8108B9B4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58DA5C-2F98-42C7-B7CF-62A1083C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570CB0-3A1E-4A6F-B805-B2C8ABAE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E4A9A87-DFD1-4B10-96D6-498848AC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7C8B4C-D3C5-4F18-826E-24A5D62A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9E4E24B-B43C-4E50-A70F-E985AABC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B7EA8CB-2710-4DCA-9E5B-DFA4167B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84876E9-38DB-4BBE-BCF0-DA8D81D8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8277940-9CDF-4A99-B729-9C73DE6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0814DD-782A-45AA-9978-60FD788E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EC174EA-A5AE-4962-B32C-F69561E0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B9D3-E813-4A3C-B82C-483751DA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443CA-DF8E-4E93-8CEC-0DA87D22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129033-3731-4B46-B36C-833E9F01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0FB0561-7E81-4682-B7C1-70896B8C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5ECA1C3-6AE9-445B-A796-824414E5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5B9CE54-F500-4CB8-893A-E7A7F35A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FA86825-3F4C-4B63-BBDC-9100CAEF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0F6F065-64BB-4799-ADA9-30B58DF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7B5935-E073-4C43-8E19-F8CAD33C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DCD30C-83A3-4B64-899B-400EF3C5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0519BCA-867E-47AA-99ED-928D447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F48BE1C-EC55-478E-8DBF-A5FC7EB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F0754-17A3-4013-B57F-C3A2747E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2A6494-A116-40D8-A60D-060476B8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887112A-9256-424D-9418-6C0BFAF0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EC454B-1F32-46BA-8FFC-2E503409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A4EFB0C-85F5-4AB7-A850-C20CA697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8C8800B-D502-4EBA-AEA9-F4AE18A9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16FCDC8-78D7-4D55-B345-3ADF83EE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86495B-CEDB-4D6A-9142-C7521160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1E7F7F-8DCA-4ACC-AC7E-3FB3801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80FD231-B8DC-4D4E-ABCE-72B1C68D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AAFA3B-D8EA-4578-92C7-60F63AF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95FCE-617F-401A-9EEE-2120AE2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B78D5D6-87A6-4C7B-9370-705B26ED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487C06F-8120-45D7-9FFC-447D7C9F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E97637B-9378-4D39-9A1D-12849457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7EA85AA-1D10-48FD-B934-9FD1A82B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C151D3-1C6E-47EA-B904-9F5F68A7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4B80530-5E92-4995-8FA5-EEFFF3A8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284EF58-E072-4409-AD49-DDFA7F8D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D576A7C-74EE-4775-80B5-C275AAF7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C8E29F9-524B-47EE-BA3B-B915668D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6D0078E-FEF9-4366-AA93-FAFA3E6E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2486C-6280-4DC7-9526-765C8B6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C1EB078-9BA5-4F9C-ACC6-85C92B32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9287450-0DC7-488E-A160-0685D05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A8C49CD-D366-44AD-8F93-DE9C4477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CC82EE3-DBB6-4EEA-A82B-235DF6E9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631B5B0-199F-44D0-9961-F7270CC8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D8868E9-C879-48E3-A012-A99D93D8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24C3E89-4F2D-4740-A3BB-A521D36E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CDB3EDE-7E38-4AB4-B572-98D614DA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16D2555-6649-4A73-871A-0F790A28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42EA2BC-716E-4E2B-B1AF-6C953F4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0E7B7-B2AE-4D23-A1BB-F3529EF3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CB93FD-8BBD-40B1-BCB7-BADCEC42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50C4C7B-5BFC-49C3-9F6C-458535F8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A9F4654-05BC-4CEA-BF24-96795208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F1E3706-A4ED-482C-B717-6DEB7E7D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A740BC6-BF52-4D58-8FF5-A97A847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B6C1C64-B147-4045-9B05-DFC0E3A8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2927587-E3CE-43D3-A453-74C97C10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28F88B-39EA-4A26-8BEE-CB0A8C71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A7421B2-DEB4-471A-A495-17CFE6F7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DE34933-250C-41E3-B06C-25C87EE8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7DEB0-0214-4553-9A43-1931A486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06B9E12-CC62-479C-8D0D-54A9FAD5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BCBCC9C-EBF0-4D1F-B5C0-5EA6288E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79F55A1-70BD-4C84-8F23-68270B0E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74BDE98-51FC-48E3-8262-7773E885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3911049-6F2E-41C9-A13B-1B81C3BC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A97C34E-A066-4C42-98B9-781B26DE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49F6EE8-F4EA-4FC0-A164-83C30AAB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CD7579-BED1-4415-B8C0-C34E2F2E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ABF08BE-3913-4003-B9D8-1D3BC2F4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EEE6207-C7AC-410E-92F2-A62B6CE4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349EA-3EDE-4452-986F-425AA29B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1A4A601-BE7D-46E0-BE7B-E710B378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DBCAE74-2875-4F2C-8D4A-7F7C994D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A1C74B4-BC45-4045-B705-5EF6166A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3F5BD65-92B3-4706-A869-7B04C0C2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82A912F-6F3C-4F4C-8D0E-A70D655B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C83AC78-44C9-4767-9474-6EAF517D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B06901B-882B-4E00-8023-4E65E4FA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7B8961-50CC-4280-B9A3-4EE81395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8258D40-EF5F-48FE-85CE-6F572174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C1C37D2-4D24-4D9A-B155-6948F0AC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BB079-CFDD-4BC3-B337-C2828C0E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281B75E-B5EF-487A-9122-5AF6CEAE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DDCFC3-C9C2-492C-A41B-DD149191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C52198F-04C4-48A2-9E5E-9BB6E315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8447B77-65EB-4126-8F67-3B674385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1DA87D1-9AB9-439F-A81B-0DA593D8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E40490A-2559-4EA4-8AFF-5A6F98F3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F9231EB-020A-4EAA-8A3B-FB25D35C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9421CCA-2038-40E0-A3D8-AEAFEC0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EDD968A-25ED-4086-B111-20ADA18D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1DB3447-DF68-49FE-89B2-5F112F2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CA62B-0108-4393-B744-55B91FF0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DA8D75E-7B22-48A9-BD9F-116BC8A2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7F6B88A-2FCF-4A1F-917E-13266ADC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C891427-66CD-4129-855C-31571382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78EC1CC-1D18-418B-BFC5-532AE7E4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E8B4B00-3172-4112-92BA-FF2BDEB8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2765352-CDF9-4DF8-8A97-3086AF2D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13F8200-05AC-4DA2-B294-788C2477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55DAAD0-8819-495B-B381-4869D2CA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3754159-E200-4CF3-A41C-A9A2D113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6FB9231-CFE4-4403-99B1-5FAEFD20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EABB5-2ABC-4F5D-8361-CB2E8ACE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2F6F382-FF3E-4D8B-A11B-C427E492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8D4B74A-C8AF-48C3-A7B9-90C618E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ECDD999-E2B7-47F5-BF80-F43F263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C124F49-0A6E-46CB-A5A0-68D160E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2DD6E1B-EAFF-43C8-A280-CDB89315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669B71F-E3DF-430B-BE62-DF080B60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8AC455C-96CE-4FC4-8D34-2B109AAE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42DB3BF-E1D1-4E03-9DCA-CE96847C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375D1DA-8858-4B5B-8C6D-5377C72A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CB78CAD-E4DF-44F9-9A19-D8A673CE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E8E3-05B2-4E13-B811-1BB785D3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4ADC9-93C1-4E6B-A815-F78BBA4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E976A4E-22E3-4F0A-935D-33C9BC8A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2E4008D-AE74-4446-BD29-EB77B171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9F15B04-83DB-46DE-915E-488B1588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0E8ED8F-B34A-4FF3-BE8A-C8C93B77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616A195-7EDF-4C49-B11A-C18DA15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BCDCAC4-D7B4-44A9-AD51-EC685E1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D4F421B-9E93-460F-8375-966D9925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CD3EC93-1FB4-4D84-B049-318D5FD6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DD9D41B-A88F-443C-8000-7EFE0FC7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F2B26D2-7E60-4634-9703-80A8CFB9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B3FBE-77D9-46F3-A338-58E285D2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41CEA11-152A-490D-9460-F9237EB4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8FC67A1-C892-4FCA-9E84-393B2C2F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50FFB7-3939-449A-ADF5-0DB85AEF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ED88CBB-075B-419F-A7E4-DEEDF9B6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EF9F7BD-20B6-4599-A11E-318CFF3E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846E26B-3E6A-47F5-ADFF-ECBB2F4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C2365C4-3C62-4D0B-ABC8-10280045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DC472C6-5D49-4115-B778-BABAA614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1644C77-3451-41E7-99A5-4A172F9A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FA2C51E-F132-434F-8545-48FC3199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17BFD-B509-43A3-9884-28D8B030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F36016C-3459-4456-A77B-E9F96CE9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F22FC05-3A7D-4772-9389-A5125CE7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366E008-78C9-4355-9E54-206A2F3D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DE75A16-4E36-4781-9050-FC504524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519129E-8A02-4A11-91E9-6E720045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51237EC-43E3-4A26-BEAF-F9AE44AB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F28EA70-8673-4EDD-B1B8-CAA3AB46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2E44D0C-D1CC-4700-85B4-5D0D7576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687DAFB-FB6C-4686-923C-5996191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E954E3D-47E6-4FA2-BB79-F571C2A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E3BBB-50EC-4D60-B066-E5E5694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D6D8373-25A6-437D-BCEF-9DFB385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4B72FE4-1382-498B-B1A8-B217EF12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0A43A92-D41D-432A-AE04-B29E5662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BDA326E-F307-4394-B61A-384C4D72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DCACADB-E150-4DD0-9A06-8B9116C8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F945267-6919-4CE3-AB7E-9F53EF5B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0B42C07-37E1-4A09-A853-3C406225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4731BDE-E056-4930-8263-53675FD5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E20007A-3FD2-45B9-8F9B-64C4F6E5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FB06D6A-3315-411F-96E6-142E060B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46063-0326-4A4B-9118-B983D3BD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C71DFF4-93B5-4278-B4F0-B9F466FD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827C0D6-5889-4FAD-904D-A56E7C1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708F965-D44E-4B52-8A35-25789FA1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68ACAFE-E352-40B1-AD98-FD1CBC22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8DFED53-71D9-451D-85E7-355B4CB4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4301E78-F939-49C5-8A3A-527EC618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5174BAA-677F-49AF-B75B-594BC375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F7A85D2-9153-43EF-9EB1-410736D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D175BA9-33CA-463D-B93F-0C3EA82A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7322DC6-67FD-49DF-9E92-F699DAB1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C35CD-EFEC-4991-BAD4-F5AAC1EF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75EB58C-91B4-41CE-B83D-5FE22B80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A5D7C08-E354-438D-9EFB-EE6F63AC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B5853B8-441C-49BE-9EE4-AC3FB831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D13BE5A-6887-4447-B178-126EDBC5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C291C68-F49C-4CB0-B4C9-F83C7906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AEA06A0-A881-4D0F-9148-3348E84E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BE008CB-71F7-45B4-86C1-4443CD1C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859C41E-4A30-4FD2-8320-9D09C094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A86D135-0CAD-4C62-BF9B-8972CF34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5A3C4A6-EFAF-4861-81F7-333872A4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E2019-6AB5-47EC-ADE2-A315CC4A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C9667AE-388F-412C-BAF8-BF59C14D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FBC7D14-4B01-4187-ABBD-E1ACBF42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153221B-4D44-4C99-BFE6-B64B4CCB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AD45EA6-517B-4C23-9DA9-301F015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E11D372-FE6E-4357-9B25-8E28594D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C00B085-8A0A-4DCC-827D-8BE590F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76B7557-A853-4B2B-B432-BA020AD1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7BD8721-FC7D-4F42-87AA-34B070C9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00BCA20-5D7A-42F8-A019-28F7515C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DC2DD-CA6C-4F43-8D04-D3351FE9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6D671-DEDB-42A8-A963-62643EB2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D98EF-F409-42C5-81B3-E5735A02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18C4-A913-4AFD-B3DC-F6C6AE65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18AC8-8748-4A38-AB53-123C5933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28942-C3DC-4DA2-8140-36F29F68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691E6-BFC5-4338-885B-6C334B3B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93524-E5E7-4556-9BB5-1BD5DE38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4EDE8-D579-4856-BAB8-A3D77933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477FA-A207-4DAB-9838-6A802581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664F5-B978-4731-BA41-798273E9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4621D-D3E2-4B63-AA6B-75F7783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81F66-D6AD-49D5-9260-CDC453BE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40ECE-154F-4C2D-BE82-EF2AFB27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750B-06D9-4B66-8F65-1FEEC3A9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E79DC-F2DA-4AEB-902B-5E2AD5C4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9D8B2-524B-47A2-9B0A-C8FF7A2E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5BED4-F3B2-4584-B33F-E2A6BA9D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4A7CC-19C7-4AFF-A41C-0974816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52C45-54CC-4531-B205-FADB68EF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E2E99-6D39-4D9B-878C-FF1C324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1C616-E069-45A6-9208-2CC619A1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07F85-5A47-46DB-B7F5-3BEB059B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2FBF3-4DBD-482D-A351-15CE4064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BB3EE-C3CA-46B3-8BD6-222FE5F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8BAD-5A6F-4696-885F-8EB0B781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76855-A8C0-4CC7-8592-CDBC3061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E15E1-A2D4-4800-9E47-D1AED3AE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092EA-66A9-4B05-B97A-1C490C2A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6F6DC-31F7-48DD-8E64-04E3CAE8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3ED79-5CE9-4768-8932-CF914897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0F37F-EACF-429E-B9C5-B942B347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B8647-2A3B-4D7C-A6AE-DBA8E763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32057-6920-475D-877D-B3836ACF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CB100-3F8D-40FF-ABC9-FB00379F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F2797-6479-4666-8AAA-B4FEF11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2376-F48F-4BAC-90FA-C657113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58030-369C-4120-AE4D-3E46BB4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F4190-3817-4997-9C8B-C66DC268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0A266-4B6C-4B27-B6EE-8E877956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D0085B-98E4-45C6-9CC1-B2CE320A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32A886-B2EC-4DAB-9C53-CD481B6B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B6863-230E-43CB-8E61-4D08FC21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2DE9E-D35D-4755-A001-19BD7334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A12FF3-1BCA-4FFA-B10A-31AE7A21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582D0D-8F6C-4D9F-BD79-A1F46778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C18A37-89CC-4AC2-B9E7-1A5D2033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3A1D-95B9-4168-B2C3-1DA97C4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7E794-B603-4F79-B9B5-A0EC4B25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2CF63-A0DE-4589-917A-5E97B70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8D1784-938E-4DA5-9A97-3741B931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17A35C-08DC-4154-8D20-76E2AD9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2822040"/>
            <a:ext cx="255744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2AC7F1-0CD0-4BD8-8DD2-0348441A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996200" y="53028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996200" y="2822040"/>
            <a:ext cx="124776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A16A14-FD4A-4048-8AFF-02E2C7A7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55052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415600" y="53028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155052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2415600" y="2822040"/>
            <a:ext cx="823320" cy="20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F8C8BB-D7F9-4EBF-A28B-83B84CA0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291DF3-DA4B-4721-B6AC-4A4376EE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60072E-9E8D-42B2-B5B7-D5C05C17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337FB3-63B3-43C6-AB63-AFE39EC9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8420-4B3C-4684-9739-85C88B7273D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8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9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F03D-8C7E-4D57-B252-6953EF2C880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dt" idx="30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31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3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750E-08EF-4011-91D7-B151D407AA2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dt" idx="3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34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35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71A7-41FC-4E72-89A9-96D580C0283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dt" idx="36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37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38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FED2-4CD7-4940-9EC4-184835A8701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dt" idx="39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40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41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5269-861C-4F14-8176-72AF76D55F8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dt" idx="42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43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4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FC90-2931-4A8B-B431-1B2AE7BFE7A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dt" idx="4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46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47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4A67-CD72-4CB7-BBF6-068CFD6FF7D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dt" idx="48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ftr" idx="49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sldNum" idx="50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6BE8-929C-4ACF-A027-EBDFDAE5CC5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dt" idx="51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ftr" idx="52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sldNum" idx="53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BC87-7516-414E-BA02-4F8B35D6B71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dt" idx="54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55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56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BCD9-C07E-498D-8200-FF8F2D1F2BB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dt" idx="57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5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B82D-4D2E-42A3-BC96-F3F600BC9F4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6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58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59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DE51-11AB-4E37-8959-7815476EA0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dt" idx="60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ftr" idx="61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sldNum" idx="62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DC62-D2FE-4EB6-ADE1-9ED2C6E0966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dt" idx="63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64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sldNum" idx="65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29E5-E8AD-4C3A-AE3E-9FBC48DF85A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dt" idx="66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ftr" idx="67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sldNum" idx="68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AF61-9EC9-48E2-98A5-9C7E44A0A2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dt" idx="69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ftr" idx="70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sldNum" idx="71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C2EC-2ABF-4FA8-91E3-8AC95FCD8E3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dt" idx="72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ftr" idx="73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sldNum" idx="74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8460-2C09-4445-ABCF-A6A7D92CE3C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dt" idx="75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ftr" idx="76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sldNum" idx="77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97A5-BFC3-4992-829B-F74B88F9478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dt" idx="78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Скругленный прямоугольник 6" hidden="1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Скругленный прямоугольник 8" hidden="1"/>
          <p:cNvSpPr/>
          <p:nvPr/>
        </p:nvSpPr>
        <p:spPr>
          <a:xfrm>
            <a:off x="557280" y="433440"/>
            <a:ext cx="11075760" cy="5486400"/>
          </a:xfrm>
          <a:prstGeom prst="roundRect">
            <a:avLst>
              <a:gd name="adj" fmla="val 2125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ftr" idx="79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sldNum" idx="80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6B42-739B-495E-863B-F7AD6D130D8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dt" idx="81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15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2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3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B8CA-2CB5-4949-A6C9-F440D9A7CC7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 type="dt" idx="84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19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85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86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B89E-8D9E-4DA9-A9E0-C760A0BC65B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 type="dt" idx="87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8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96F6-851F-415A-A882-4E029F09655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dt" idx="9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2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ftr" idx="88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sldNum" idx="89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27A0-52C2-46EB-BAD3-0426CC9716D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 type="dt" idx="90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2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91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92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586C-EAAB-477F-97F1-71B178F4859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 type="dt" idx="93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33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8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 type="ftr" idx="94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 type="sldNum" idx="95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7531-A7BD-4D0F-8D21-3D4C282F00E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 type="dt" idx="96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38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4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 type="ftr" idx="97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 type="sldNum" idx="98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DE5C-2BE1-448B-8EBA-C2ECF96352F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 type="dt" idx="99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42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100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101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3BA8-61AA-43AF-818C-B7D4F5EDCD4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 type="dt" idx="102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4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47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103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104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BFBB-523F-4BFE-9673-B10349A0B78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dt" idx="105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52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2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ftr" idx="106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sldNum" idx="107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AB3F-3D2C-4075-8C1B-08DA2672869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 type="dt" idx="108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5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8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 type="ftr" idx="109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 type="sldNum" idx="110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ECA-6B1D-4B08-8CF8-AB8100613D6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 type="dt" idx="111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2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61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4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2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3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8BFB-9E8D-480B-93D3-20B17EA808B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6"/>
          <p:cNvSpPr>
            <a:spLocks noGrp="1"/>
          </p:cNvSpPr>
          <p:nvPr>
            <p:ph type="dt" idx="114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Скругленный прямоугольник 6"/>
          <p:cNvSpPr/>
          <p:nvPr/>
        </p:nvSpPr>
        <p:spPr>
          <a:xfrm>
            <a:off x="406440" y="328680"/>
            <a:ext cx="1137600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cap="rnd" w="2160">
            <a:solidFill>
              <a:srgbClr val="a4a4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8" name="Скругленный прямоугольник 8"/>
          <p:cNvGrpSpPr/>
          <p:nvPr/>
        </p:nvGrpSpPr>
        <p:grpSpPr>
          <a:xfrm>
            <a:off x="487440" y="396720"/>
            <a:ext cx="11217240" cy="5632560"/>
            <a:chOff x="487440" y="396720"/>
            <a:chExt cx="11217240" cy="5632560"/>
          </a:xfrm>
        </p:grpSpPr>
        <p:pic>
          <p:nvPicPr>
            <p:cNvPr id="16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87440" y="396720"/>
              <a:ext cx="112172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592200" y="468360"/>
              <a:ext cx="110059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body"/>
          </p:nvPr>
        </p:nvSpPr>
        <p:spPr>
          <a:xfrm>
            <a:off x="3371760" y="530280"/>
            <a:ext cx="25574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ftr" idx="115"/>
          </p:nvPr>
        </p:nvSpPr>
        <p:spPr>
          <a:xfrm>
            <a:off x="8083080" y="6111720"/>
            <a:ext cx="3046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a49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7a49a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sldNum" idx="116"/>
          </p:nvPr>
        </p:nvSpPr>
        <p:spPr>
          <a:xfrm>
            <a:off x="11131200" y="6111720"/>
            <a:ext cx="608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BC19-2BB8-4660-98F9-46CB5A50DD5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 type="dt" idx="117"/>
          </p:nvPr>
        </p:nvSpPr>
        <p:spPr>
          <a:xfrm>
            <a:off x="5035680" y="6111720"/>
            <a:ext cx="3046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0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6A8C-DB19-4A07-873B-F3958215072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dt" idx="12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3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0C66-E44B-4005-96CE-9470D837173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dt" idx="1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6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A8A3-10BC-4354-8F5A-1374904F67D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18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9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0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523B-7F96-4E2E-937E-C3B1E8059A9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dt" idx="2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2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3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3ED4-89CD-43BD-8D1F-8D3F6AD2314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24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2880"/>
            <a:ext cx="10972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5"/>
          </p:nvPr>
        </p:nvSpPr>
        <p:spPr>
          <a:xfrm>
            <a:off x="4038480" y="6356160"/>
            <a:ext cx="41133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6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FEB9-965E-41E6-B870-26EC2A16A30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dt" idx="27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3" name="Рисунок 18" descr="Абстрактный архитектурный дизайн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 txBox="1"/>
          <p:nvPr/>
        </p:nvSpPr>
        <p:spPr>
          <a:xfrm>
            <a:off x="2139840" y="894960"/>
            <a:ext cx="837432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Narrow"/>
              </a:rPr>
              <a:t>Аккредитационный мониторинг системы образ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 Narrow"/>
              </a:rPr>
              <a:t>задачи для муниципальных координаторов и ответственных лиц образовательных организ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5" name="Рисунок 20" descr=""/>
          <p:cNvPicPr/>
          <p:nvPr/>
        </p:nvPicPr>
        <p:blipFill>
          <a:blip r:embed="rId2"/>
          <a:stretch/>
        </p:blipFill>
        <p:spPr>
          <a:xfrm>
            <a:off x="1063800" y="214200"/>
            <a:ext cx="1285560" cy="1163880"/>
          </a:xfrm>
          <a:prstGeom prst="rect">
            <a:avLst/>
          </a:prstGeom>
          <a:ln w="0">
            <a:noFill/>
          </a:ln>
        </p:spPr>
      </p:pic>
      <p:pic>
        <p:nvPicPr>
          <p:cNvPr id="1706" name="Рисунок 22" descr=""/>
          <p:cNvPicPr/>
          <p:nvPr/>
        </p:nvPicPr>
        <p:blipFill>
          <a:blip r:embed="rId3"/>
          <a:stretch/>
        </p:blipFill>
        <p:spPr>
          <a:xfrm>
            <a:off x="10648800" y="285840"/>
            <a:ext cx="72864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334800" y="188640"/>
            <a:ext cx="11017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Организация проведения аккредитационного мониторинга в 2023 году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1708" name="Diagram1" descr=""/>
          <p:cNvPicPr/>
          <p:nvPr/>
        </p:nvPicPr>
        <p:blipFill>
          <a:blip r:embed="rId1"/>
          <a:stretch/>
        </p:blipFill>
        <p:spPr>
          <a:xfrm>
            <a:off x="622440" y="1262160"/>
            <a:ext cx="8935920" cy="5267160"/>
          </a:xfrm>
          <a:prstGeom prst="rect">
            <a:avLst/>
          </a:prstGeom>
          <a:ln w="0">
            <a:noFill/>
          </a:ln>
        </p:spPr>
      </p:pic>
      <p:sp>
        <p:nvSpPr>
          <p:cNvPr id="1709" name="TextBox 4"/>
          <p:cNvSpPr/>
          <p:nvPr/>
        </p:nvSpPr>
        <p:spPr>
          <a:xfrm>
            <a:off x="1116000" y="906480"/>
            <a:ext cx="9713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VIII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Приволжский федеральный округ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дата ВКС                   сроки внесения данных в ИС 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                                          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03.11.2023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                         06.11.2023 – 19.11.202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8"/>
          <p:cNvSpPr/>
          <p:nvPr/>
        </p:nvSpPr>
        <p:spPr>
          <a:xfrm>
            <a:off x="9390240" y="1917720"/>
            <a:ext cx="2322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 Narrow"/>
              </a:rPr>
              <a:t>Письмо Рособрнадзора от 08.09.2023 № 06-2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1" name="Рисунок 10" descr=""/>
          <p:cNvPicPr/>
          <p:nvPr/>
        </p:nvPicPr>
        <p:blipFill>
          <a:blip r:embed="rId2"/>
          <a:stretch/>
        </p:blipFill>
        <p:spPr>
          <a:xfrm>
            <a:off x="9451800" y="2658960"/>
            <a:ext cx="219888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07880" y="365040"/>
            <a:ext cx="11376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Критерии отбора организаций, осуществляющих образовательную деятельность, для проведения аккредитационного мониторинга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grpSp>
        <p:nvGrpSpPr>
          <p:cNvPr id="1713" name="Объект 3"/>
          <p:cNvGrpSpPr/>
          <p:nvPr/>
        </p:nvGrpSpPr>
        <p:grpSpPr>
          <a:xfrm>
            <a:off x="719280" y="1252440"/>
            <a:ext cx="10513800" cy="4351320"/>
            <a:chOff x="719280" y="1252440"/>
            <a:chExt cx="10513800" cy="4351320"/>
          </a:xfrm>
        </p:grpSpPr>
        <p:sp>
          <p:nvSpPr>
            <p:cNvPr id="1714" name="Прямоугольник 91"/>
            <p:cNvSpPr/>
            <p:nvPr/>
          </p:nvSpPr>
          <p:spPr>
            <a:xfrm>
              <a:off x="807840" y="1252440"/>
              <a:ext cx="10274760" cy="43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5" name="Скругленный прямоугольник 92"/>
            <p:cNvGrpSpPr/>
            <p:nvPr/>
          </p:nvGrpSpPr>
          <p:grpSpPr>
            <a:xfrm>
              <a:off x="725040" y="1944000"/>
              <a:ext cx="5033520" cy="1384200"/>
              <a:chOff x="725040" y="1944000"/>
              <a:chExt cx="5033520" cy="1384200"/>
            </a:xfrm>
          </p:grpSpPr>
          <p:pic>
            <p:nvPicPr>
              <p:cNvPr id="1716" name="Скругленный прямоугольник 92" descr=""/>
              <p:cNvPicPr/>
              <p:nvPr/>
            </p:nvPicPr>
            <p:blipFill>
              <a:blip r:embed="rId1"/>
              <a:stretch/>
            </p:blipFill>
            <p:spPr>
              <a:xfrm>
                <a:off x="725040" y="1944000"/>
                <a:ext cx="5033520" cy="138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7" name=""/>
              <p:cNvSpPr/>
              <p:nvPr/>
            </p:nvSpPr>
            <p:spPr>
              <a:xfrm>
                <a:off x="844560" y="2021400"/>
                <a:ext cx="4728960" cy="11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680" rIns="40680" tIns="76680" bIns="76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 Narrow"/>
                  </a:rPr>
                  <a:t>Образовательные программы общего образова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Стрелка вправо 93"/>
            <p:cNvGrpSpPr/>
            <p:nvPr/>
          </p:nvGrpSpPr>
          <p:grpSpPr>
            <a:xfrm>
              <a:off x="3024360" y="3279240"/>
              <a:ext cx="369000" cy="371880"/>
              <a:chOff x="3024360" y="3279240"/>
              <a:chExt cx="369000" cy="371880"/>
            </a:xfrm>
          </p:grpSpPr>
          <p:pic>
            <p:nvPicPr>
              <p:cNvPr id="1719" name="Стрелка вправо 9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24360" y="3279240"/>
                <a:ext cx="36900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5400000">
                <a:off x="3138120" y="3322440"/>
                <a:ext cx="14256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1" name="Скругленный прямоугольник 94"/>
            <p:cNvGrpSpPr/>
            <p:nvPr/>
          </p:nvGrpSpPr>
          <p:grpSpPr>
            <a:xfrm>
              <a:off x="719280" y="3590280"/>
              <a:ext cx="4974120" cy="1402200"/>
              <a:chOff x="719280" y="3590280"/>
              <a:chExt cx="4974120" cy="1402200"/>
            </a:xfrm>
          </p:grpSpPr>
          <p:pic>
            <p:nvPicPr>
              <p:cNvPr id="1722" name="Скругленный прямоугольник 94" descr=""/>
              <p:cNvPicPr/>
              <p:nvPr/>
            </p:nvPicPr>
            <p:blipFill>
              <a:blip r:embed="rId3"/>
              <a:stretch/>
            </p:blipFill>
            <p:spPr>
              <a:xfrm>
                <a:off x="719280" y="3590280"/>
                <a:ext cx="4974120" cy="14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"/>
              <p:cNvSpPr/>
              <p:nvPr/>
            </p:nvSpPr>
            <p:spPr>
              <a:xfrm>
                <a:off x="844560" y="3679560"/>
                <a:ext cx="4728960" cy="11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560" rIns="25560" tIns="61560" bIns="61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 Narrow"/>
                  </a:rPr>
                  <a:t>Наличие государственной аккредитации образовательной деятельност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 Narrow"/>
                  </a:rPr>
                  <a:t>Наличие выпуска обучающихся в 2022 году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4" name="Скругленный прямоугольник 95"/>
            <p:cNvGrpSpPr/>
            <p:nvPr/>
          </p:nvGrpSpPr>
          <p:grpSpPr>
            <a:xfrm>
              <a:off x="6199560" y="1944000"/>
              <a:ext cx="5033520" cy="1384200"/>
              <a:chOff x="6199560" y="1944000"/>
              <a:chExt cx="5033520" cy="1384200"/>
            </a:xfrm>
          </p:grpSpPr>
          <p:pic>
            <p:nvPicPr>
              <p:cNvPr id="1725" name="Скругленный прямоугольник 9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9560" y="1944000"/>
                <a:ext cx="5033520" cy="138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6" name=""/>
              <p:cNvSpPr/>
              <p:nvPr/>
            </p:nvSpPr>
            <p:spPr>
              <a:xfrm>
                <a:off x="6316560" y="2021400"/>
                <a:ext cx="4728960" cy="11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680" rIns="40680" tIns="76680" bIns="76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125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 Narrow"/>
                  </a:rPr>
                  <a:t>Образовательные программы СПО-В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Стрелка вправо 96"/>
            <p:cNvGrpSpPr/>
            <p:nvPr/>
          </p:nvGrpSpPr>
          <p:grpSpPr>
            <a:xfrm>
              <a:off x="8493120" y="3279240"/>
              <a:ext cx="369000" cy="371880"/>
              <a:chOff x="8493120" y="3279240"/>
              <a:chExt cx="369000" cy="371880"/>
            </a:xfrm>
          </p:grpSpPr>
          <p:pic>
            <p:nvPicPr>
              <p:cNvPr id="1728" name="Стрелка вправо 96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3120" y="3279240"/>
                <a:ext cx="36900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9" name=""/>
              <p:cNvSpPr/>
              <p:nvPr/>
            </p:nvSpPr>
            <p:spPr>
              <a:xfrm rot="5400000">
                <a:off x="8610480" y="3322440"/>
                <a:ext cx="14256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0" name="Скругленный прямоугольник 97"/>
            <p:cNvGrpSpPr/>
            <p:nvPr/>
          </p:nvGrpSpPr>
          <p:grpSpPr>
            <a:xfrm>
              <a:off x="6193440" y="3590280"/>
              <a:ext cx="5003640" cy="1402200"/>
              <a:chOff x="6193440" y="3590280"/>
              <a:chExt cx="5003640" cy="1402200"/>
            </a:xfrm>
          </p:grpSpPr>
          <p:pic>
            <p:nvPicPr>
              <p:cNvPr id="1731" name="Скругленный прямоугольник 9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93440" y="3590280"/>
                <a:ext cx="5003640" cy="14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2" name=""/>
              <p:cNvSpPr/>
              <p:nvPr/>
            </p:nvSpPr>
            <p:spPr>
              <a:xfrm>
                <a:off x="6316200" y="3679560"/>
                <a:ext cx="4728960" cy="11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120" rIns="24120" tIns="60120" bIns="601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6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900" spc="-1" strike="noStrike">
                    <a:solidFill>
                      <a:srgbClr val="000000"/>
                    </a:solidFill>
                    <a:latin typeface="Arial Narrow"/>
                  </a:rPr>
                  <a:t>Наличие государственной аккредитации образовательной деятельности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66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900" spc="-1" strike="noStrike">
                    <a:solidFill>
                      <a:srgbClr val="000000"/>
                    </a:solidFill>
                    <a:latin typeface="Arial Narrow"/>
                  </a:rPr>
                  <a:t>Наличие выпуска обучающихся в 2021,2022 годы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11783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Навигация координации взаимодействия в ходе подготовки</a:t>
            </a:r>
            <a:br>
              <a:rPr sz="2800"/>
            </a:b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 и проведения аккредитационного мониторинга </a:t>
            </a:r>
            <a:endParaRPr b="0" lang="en-US" sz="28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1734" name="Diagram2" descr=""/>
          <p:cNvPicPr/>
          <p:nvPr/>
        </p:nvPicPr>
        <p:blipFill>
          <a:blip r:embed="rId1"/>
          <a:stretch/>
        </p:blipFill>
        <p:spPr>
          <a:xfrm>
            <a:off x="828720" y="1133640"/>
            <a:ext cx="1081404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23880" y="115920"/>
            <a:ext cx="10910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18b9"/>
                </a:solidFill>
                <a:latin typeface="Arial Narrow"/>
              </a:rPr>
              <a:t>Информационное пространство обратных связей</a:t>
            </a:r>
            <a:endParaRPr b="0" lang="en-US" sz="2800" spc="-1" strike="noStrike">
              <a:solidFill>
                <a:srgbClr val="44546a"/>
              </a:solidFill>
              <a:latin typeface="Arial"/>
            </a:endParaRPr>
          </a:p>
        </p:txBody>
      </p:sp>
      <p:pic>
        <p:nvPicPr>
          <p:cNvPr id="1736" name="Diagram3" descr=""/>
          <p:cNvPicPr/>
          <p:nvPr/>
        </p:nvPicPr>
        <p:blipFill>
          <a:blip r:embed="rId1"/>
          <a:stretch/>
        </p:blipFill>
        <p:spPr>
          <a:xfrm>
            <a:off x="311040" y="1639800"/>
            <a:ext cx="5139000" cy="4552920"/>
          </a:xfrm>
          <a:prstGeom prst="rect">
            <a:avLst/>
          </a:prstGeom>
          <a:ln w="0">
            <a:noFill/>
          </a:ln>
        </p:spPr>
      </p:pic>
      <p:grpSp>
        <p:nvGrpSpPr>
          <p:cNvPr id="1737" name="Объект 9"/>
          <p:cNvGrpSpPr/>
          <p:nvPr/>
        </p:nvGrpSpPr>
        <p:grpSpPr>
          <a:xfrm>
            <a:off x="5808600" y="1420920"/>
            <a:ext cx="5702400" cy="4763880"/>
            <a:chOff x="5808600" y="1420920"/>
            <a:chExt cx="5702400" cy="4763880"/>
          </a:xfrm>
        </p:grpSpPr>
        <p:sp>
          <p:nvSpPr>
            <p:cNvPr id="1738" name="Прямоугольник 148"/>
            <p:cNvSpPr/>
            <p:nvPr/>
          </p:nvSpPr>
          <p:spPr>
            <a:xfrm>
              <a:off x="5808600" y="1420920"/>
              <a:ext cx="57016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Трапеция 149"/>
            <p:cNvSpPr/>
            <p:nvPr/>
          </p:nvSpPr>
          <p:spPr>
            <a:xfrm rot="10800000">
              <a:off x="5809320" y="1420560"/>
              <a:ext cx="5701680" cy="1190160"/>
            </a:xfrm>
            <a:prstGeom prst="pie">
              <a:avLst/>
            </a:prstGeom>
            <a:solidFill>
              <a:srgbClr val="4472c4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0160" rIns="20160" tIns="20160" bIns="2016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718b9"/>
                  </a:solidFill>
                  <a:latin typeface="Arial Narrow"/>
                </a:rPr>
                <a:t>Федеральная служба по надзору в сфере образования и нау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Главное мен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Аккредитационный мониторин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 Narrow"/>
                </a:rPr>
                <a:t>Аккредитационный мониторин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Трапеция 150"/>
            <p:cNvSpPr/>
            <p:nvPr/>
          </p:nvSpPr>
          <p:spPr>
            <a:xfrm rot="10800000">
              <a:off x="6522120" y="2611440"/>
              <a:ext cx="4276080" cy="1190160"/>
            </a:xfrm>
            <a:prstGeom prst="pie">
              <a:avLst/>
            </a:prstGeom>
            <a:solidFill>
              <a:srgbClr val="4472c4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0160" rIns="20160" tIns="20160" bIns="20160" anchor="ctr" rot="10800000">
              <a:noAutofit/>
            </a:bodyPr>
            <a:p>
              <a:pPr algn="ctr"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718b9"/>
                  </a:solidFill>
                  <a:latin typeface="Arial Narrow"/>
                </a:rPr>
                <a:t>Министерство образования Саратовской области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Главное мен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Аккредитационный мониторин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Трапеция 151"/>
            <p:cNvSpPr/>
            <p:nvPr/>
          </p:nvSpPr>
          <p:spPr>
            <a:xfrm rot="10800000">
              <a:off x="7234920" y="3803760"/>
              <a:ext cx="2850480" cy="1190160"/>
            </a:xfrm>
            <a:prstGeom prst="pie">
              <a:avLst/>
            </a:prstGeom>
            <a:solidFill>
              <a:srgbClr val="4472c4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0160" rIns="20160" tIns="20160" bIns="2016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718b9"/>
                  </a:solidFill>
                  <a:latin typeface="Arial Narrow"/>
                </a:rPr>
                <a:t>Органы М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Раздел «Мониторинги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Narrow"/>
                </a:rPr>
                <a:t>Аккредитационный мониторин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Трапеция 152"/>
            <p:cNvSpPr/>
            <p:nvPr/>
          </p:nvSpPr>
          <p:spPr>
            <a:xfrm rot="10800000">
              <a:off x="7947720" y="4994640"/>
              <a:ext cx="1424880" cy="1190160"/>
            </a:xfrm>
            <a:custGeom>
              <a:avLst/>
              <a:gdLst>
                <a:gd name="textAreaLeft" fmla="*/ 474840 w 1424880"/>
                <a:gd name="textAreaRight" fmla="*/ 950040 w 1424880"/>
                <a:gd name="textAreaTop" fmla="*/ 396720 h 1190160"/>
                <a:gd name="textAreaBottom" fmla="*/ 1190520 h 1190160"/>
              </a:gdLst>
              <a:ahLst/>
              <a:rect l="textAreaLeft" t="textAreaTop" r="textAreaRight" b="textAreaBottom"/>
              <a:pathLst>
                <a:path w="1424880" h="1190160">
                  <a:moveTo>
                    <a:pt x="0" y="1190160"/>
                  </a:moveTo>
                  <a:lnTo>
                    <a:pt x="712346" y="0"/>
                  </a:lnTo>
                  <a:lnTo>
                    <a:pt x="712534" y="0"/>
                  </a:lnTo>
                  <a:lnTo>
                    <a:pt x="1424880" y="1190160"/>
                  </a:lnTo>
                  <a:close/>
                </a:path>
              </a:pathLst>
            </a:custGeom>
            <a:solidFill>
              <a:srgbClr val="4472c4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Прямоугольник 7"/>
          <p:cNvSpPr/>
          <p:nvPr/>
        </p:nvSpPr>
        <p:spPr>
          <a:xfrm>
            <a:off x="838080" y="1825560"/>
            <a:ext cx="44658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Box 10"/>
          <p:cNvSpPr/>
          <p:nvPr/>
        </p:nvSpPr>
        <p:spPr>
          <a:xfrm>
            <a:off x="8688240" y="5040360"/>
            <a:ext cx="2880000" cy="130716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18b9"/>
                </a:solidFill>
                <a:latin typeface="Arial Narrow"/>
              </a:rPr>
              <a:t>Образовательные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здел «Независимая оц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ачества образов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Аккредитационный монитор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TextBox 12"/>
          <p:cNvSpPr/>
          <p:nvPr/>
        </p:nvSpPr>
        <p:spPr>
          <a:xfrm>
            <a:off x="784800" y="1155600"/>
            <a:ext cx="2757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18b9"/>
                </a:solidFill>
                <a:latin typeface="Arial Narrow"/>
              </a:rPr>
              <a:t>Каналы оперативно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Box 14"/>
          <p:cNvSpPr/>
          <p:nvPr/>
        </p:nvSpPr>
        <p:spPr>
          <a:xfrm>
            <a:off x="7491960" y="1052640"/>
            <a:ext cx="4120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18b9"/>
                </a:solidFill>
                <a:latin typeface="Arial Narrow"/>
              </a:rPr>
              <a:t>Официальные сайты в сети в «Интерн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9T07:57:26Z</dcterms:created>
  <dc:creator>Д.А.Неверов</dc:creator>
  <dc:description/>
  <dc:language>en-US</dc:language>
  <cp:lastModifiedBy>j.ardabackaya</cp:lastModifiedBy>
  <dcterms:modified xsi:type="dcterms:W3CDTF">2023-09-20T13:31:46Z</dcterms:modified>
  <cp:revision>4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5</vt:r8>
  </property>
</Properties>
</file>